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912-EC27-46FA-9FE1-B3500D3491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o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is the form of the verb that shows the mode or manner in which a thought is expressed.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o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guishes between an assertion, a wish, or a command. The corresponding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o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are: Indicative (assertion), Subjunctive (wish),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Imperative (comma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E5C2-2493-469A-A540-C367E6BB51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545-CE51-4458-8722-2FC2B8F3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246-CFCC-44A1-9842-EB52B72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5E5-48F6-4287-924C-12A5BB9D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320-E171-4829-8444-77740717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587A-43CC-4A5B-AEB0-3C1AFD1E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78E5-281D-4894-A97B-0101216A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2567-EA5C-4B6E-A84D-E2B59607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B21-11AD-464E-ABF2-C748C11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725D-1247-4268-8F52-1619D276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F31A-DD26-4100-9987-DE246A01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3E7-13B6-410A-90D4-A10A100D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C7D-3CDE-49DD-B1D6-268EBC5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7E68-E323-4589-ABB2-EEBA4D9F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B627-A287-4013-A228-CEEB77F0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1EC-7F5C-4E51-8632-A731B30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6CCD-0F13-4162-AD41-49656079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1865-ECB6-4025-A2CE-7F9564C1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5DEB-F9CE-40E5-BA9C-734A242C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46FD-40D9-4A74-8BFF-B981ACC7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ADBC-3681-4AE3-98C0-ACC077E4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FADF-944B-40C7-ACB8-5E7630F2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B689-4E76-46D9-B28F-0BFD5CE0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6C7-A3AC-47C6-8116-6941FBDE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5669-701E-46E1-886A-94B97F09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D1EC-43E7-42B4-B046-722F195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FCC9-29A2-40F9-AA8E-BF7E4E5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44BA-AF70-482D-B387-9F78048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F2EE-90F7-492B-B0F2-E012A387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DA40-2531-4143-A860-E3CDD073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C3B2-7480-400A-9315-CF1EB6FB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E24D-D49C-40DE-9A1A-7BAEE753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5B0C-A249-4806-BD7D-3475334F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6D84-9631-48E2-9471-5E6296B0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E18-C72D-4268-B09B-C9F308DD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BD09-3D3B-4941-85F2-4000AA9C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D94B-8725-446C-A955-87FDF7D0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2C6B-9BF8-4BEC-87B0-511869EF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63B9-9EEF-4CF6-B8E9-4F8EFC6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799E-4E02-4BC7-A5EF-05FDAC0C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B90AE-70C5-4874-A2F8-A9EE888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A276-4A83-42D1-8A2B-B081E782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5808-892E-4393-B81C-566EA9C8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694A-D76C-4C05-8279-2C68EFD7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945-2290-450A-BC4E-AB6B3285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7F7-DA45-47C4-B771-489F5737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B9C-DAD2-4557-B036-3A534FF5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730-C63F-4FC9-B815-763E31E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71C-1258-4D8D-A524-54AE8D17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E9A3-A419-4683-9D11-D703C9764620}" type="slidenum">
              <a:rPr b="0" lang="fr-FR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DBB0-B6D6-409C-84D5-1EA435A5D500}" type="slidenum">
              <a:rPr b="0" lang="fr-FR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0C51-8189-46B3-AABE-FA970F9CE724}" type="slidenum">
              <a:rPr b="0" lang="fr-FR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2556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323D-A5C0-4594-83D1-423B115375A4}" type="slidenum">
              <a:rPr b="0" lang="fr-FR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7200" spc="-1" strike="noStrike">
                <a:solidFill>
                  <a:srgbClr val="ebebeb"/>
                </a:solidFill>
                <a:latin typeface="Century Gothic"/>
              </a:rPr>
              <a:t>Le subjonctif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ef53a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fair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sie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s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pouvoir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is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i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i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issie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is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uis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savoir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c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ch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chie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ch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ch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7200" spc="-1" strike="noStrike">
                <a:solidFill>
                  <a:srgbClr val="ebebeb"/>
                </a:solidFill>
                <a:latin typeface="Century Gothic"/>
              </a:rPr>
              <a:t>Les usage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ef53a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Le subjonctif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de sentiment personnel (émotions, volonté, désir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de nécessité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de dout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de possibilité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79440" y="1295280"/>
            <a:ext cx="85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On emploie le subjonctif après certaines expressions subjectives quand il y a un changement de sujet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ebebeb"/>
                </a:solidFill>
                <a:latin typeface="Century Gothic"/>
              </a:rPr>
              <a:t>après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ef53a5"/>
                </a:solidFill>
                <a:latin typeface="Century Gothic"/>
              </a:rPr>
              <a:t>Il faut 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500" spc="-1" strike="noStrike">
                <a:solidFill>
                  <a:srgbClr val="ebebeb"/>
                </a:solidFill>
                <a:latin typeface="Century Gothic"/>
              </a:rPr>
              <a:t>après un adjective ou nom qui exprime un sentiment personnel</a:t>
            </a:r>
            <a:endParaRPr b="0" lang="en-US" sz="35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Je suis enchanté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é</a:t>
            </a: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 qu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Je suis enchanté que vous soyez ici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Je suis content q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Je suis content que vous soyez ici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Je suis fier q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Je suis fier que vous soyez ici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J’ai honte q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J’ai honte que vous soyez ici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J’ai surpris q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J’ai surpris que vous soyez ici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500" spc="-1" strike="noStrike">
                <a:solidFill>
                  <a:srgbClr val="ebebeb"/>
                </a:solidFill>
                <a:latin typeface="Century Gothic"/>
              </a:rPr>
              <a:t>après un verbe que exprime un sentiment personnel</a:t>
            </a:r>
            <a:endParaRPr b="0" lang="en-US" sz="35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576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J’aime 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entury Gothic"/>
              </a:rPr>
              <a:t>J’aime que vous sortiez en silenc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Je veut 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entury Gothic"/>
              </a:rPr>
              <a:t>Je veut que vous sortiez en silenc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914400" y="48769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éférer, souhaiter, déplorer, regre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500" spc="-1" strike="noStrike">
                <a:solidFill>
                  <a:srgbClr val="ebebeb"/>
                </a:solidFill>
                <a:latin typeface="Century Gothic"/>
              </a:rPr>
              <a:t>après une expression de doute ou possibilité</a:t>
            </a:r>
            <a:endParaRPr b="0" lang="en-US" sz="35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7628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Il est possible 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Je doute 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Je ne doute pas qu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57200" y="434340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  <a:ea typeface="Arial"/>
              </a:rPr>
              <a:t>Il est possible, impossible, douteux, incert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  <a:ea typeface="Arial"/>
              </a:rPr>
              <a:t>Il n’est pas certain, possible, 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û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  <a:ea typeface="Arial"/>
              </a:rPr>
              <a:t>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7200" spc="-1" strike="noStrike">
                <a:solidFill>
                  <a:srgbClr val="ebebeb"/>
                </a:solidFill>
                <a:latin typeface="Century Gothic"/>
              </a:rPr>
              <a:t>subjonctif ou infinitif?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ef53a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Le subjonctif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C’est un mode. (indicatif, conditionnel, impératif, subjonctif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Il y a des règles qui gouvernent l’usage du subjonctif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Mais, nous commençons avec la formation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500" spc="-1" strike="noStrike">
                <a:solidFill>
                  <a:srgbClr val="ebebeb"/>
                </a:solidFill>
                <a:latin typeface="Century Gothic"/>
              </a:rPr>
              <a:t>Il faut avoir un changement de sujet!</a:t>
            </a:r>
            <a:endParaRPr b="0" lang="en-US" sz="65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ef53a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80880" y="990720"/>
          <a:ext cx="8382240" cy="58672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l faut que je sois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à l’heu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l faut être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à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l’heu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 suis enchan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é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que vous soyez ici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 suis enchan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é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d’être ici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 père préfère que j’étudie le soir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 préfère étudier le soi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l est possible que vous alliez dans la lun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l est possible d’aller dans la lun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e ne doute pas que vous puissiez faire ce voyag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i, je doute de pouvoir la fai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ebebeb"/>
                </a:solidFill>
                <a:latin typeface="Century Gothic"/>
              </a:rPr>
              <a:t> </a:t>
            </a:r>
            <a:r>
              <a:rPr b="0" lang="fr-FR" sz="2500" spc="-1" strike="noStrike">
                <a:solidFill>
                  <a:srgbClr val="ebebeb"/>
                </a:solidFill>
                <a:latin typeface="Century Gothic"/>
              </a:rPr>
              <a:t>changement                      pas de changement</a:t>
            </a:r>
            <a:endParaRPr b="0" lang="en-US" sz="25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la racine du subjonctif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entury Gothic"/>
              </a:rPr>
              <a:t>tous les verbes, sauf neuf, forment leur subjonctif sur la troisième personne du pluriel du présent de l’indicatif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0" y="1176480"/>
          <a:ext cx="4038480" cy="5378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gar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gar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g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i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iv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tt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tt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t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nd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n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n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n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en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en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les terminaison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e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Les verbes irregulier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êt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avo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all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voulo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fai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pouvo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savo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entury Gothic"/>
              </a:rPr>
              <a:t>fallo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êtr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y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ye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avoir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y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ye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aller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ie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ill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200" spc="-1" strike="noStrike">
                <a:solidFill>
                  <a:srgbClr val="ebebeb"/>
                </a:solidFill>
                <a:latin typeface="Century Gothic"/>
              </a:rPr>
              <a:t>vouloir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uil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oul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uil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oulie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uil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uill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35:36Z</dcterms:created>
  <dc:creator>MLC</dc:creator>
  <dc:description/>
  <dc:language>en-US</dc:language>
  <cp:lastModifiedBy>Kristen Valente</cp:lastModifiedBy>
  <dcterms:modified xsi:type="dcterms:W3CDTF">2017-11-15T15:46:24Z</dcterms:modified>
  <cp:revision>27</cp:revision>
  <dc:subject/>
  <dc:title>Le subjonctif</dc:title>
</cp:coreProperties>
</file>